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D93-E49A-4B0A-8E2A-996B2D14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08B-B9EA-4619-863B-351898D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8CF-00CA-4257-95AA-F06E4F1C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5E3-0C3A-4A80-8882-951E2162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2A8-9796-4BB4-9979-DE511E5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96B-60B2-40F6-AF24-321CC0F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AC2-1BA6-4BBF-ACE1-12AC00A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35F-1085-4259-B74F-267D0D4C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31E-88C9-4599-80ED-4898F69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22C-F3D5-4E43-87A3-7CE89699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DA2-3648-4D0B-AE1C-7637F50B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1BF-7A8D-433C-9158-E558F29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5A6-CA6B-462A-8266-4E9A0267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ript MT Bold"/>
              </a:rPr>
              <a:t>The Sins of Sor Ju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Analysis 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cript MT Bold"/>
              </a:rPr>
              <a:t>Corey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haracter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The Viceroy’s attitude at the end of the play is unknown, but by the outcome of the Vicereine learning of his plans to destroy Juana she continued to hat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I want Juana’s reputation destroyed by Silvio because she has brainwashed my w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ana’s intel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’s betrayal when he attempts to warn Ju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wife’s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My Special 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Sor Juana actually stayed at 2 convents. Though by the actions of the superiors in the convent such as Padre; it can be concluded that it took place a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cript MT Bold"/>
              </a:rPr>
              <a:t>Discalced Carmelites</a:t>
            </a:r>
            <a:r>
              <a:rPr b="0" i="1" lang="en-US" sz="3200" spc="-1" strike="noStrike">
                <a:solidFill>
                  <a:srgbClr val="000000"/>
                </a:solidFill>
                <a:latin typeface="Script MT Bold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Script MT Bold"/>
              </a:rPr>
              <a:t>If I’m reading this during the presentation I’m sure you’re all now laughing at my terrible pronunc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862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9933ff"/>
                </a:solidFill>
                <a:latin typeface="Script MT Bold"/>
              </a:rPr>
              <a:t>It’s about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2743200"/>
            <a:ext cx="2590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END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ript MT Bold"/>
              </a:rPr>
              <a:t>Given Circum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sins of Sor Juana and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She is writing poetry which goes against who she is as a woman. Including a feminism years ahea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became nuns and monks during the time period and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Often time the monks and nuns were those whom were outcaste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given circumstances of the play; this is the world of the 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The play takes places in two locations one is in a dream world where as the other is in a convent. In the dream she is in her past in the viceregal court, and in the convent it is her present 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New Spain in North America is the location of the court as well as the con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Historic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Sor Juana was born in 1648 and being that she was 21 in the convent it takes place in 16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The season that this play takes place is never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The story takes place through multiple days and there are time sk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Social condition of time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 Women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cript MT Bold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rights.  They are a monarchy ruled over by a vice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Economic conditions of the time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 The people in the court are very wealthy nobles. While in the convent they are mostly lower class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Political conditions of the time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 The viceroy is supreme ruler what he says goes because I’m awe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Religious conditions of the time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 Majority (that means ‘most of’ Issac) of the people are Roman Cath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Specific, physical environment in the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~   A very large and spectacular castle with the convent being nice, but it is much less splendid in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Physic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A.  Physical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1.  Age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2.  Race / Nationality - White Spani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3.  Health – Could b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4.  Posture/Figure – Upright cares about his outer appea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5.  Movement habits / gestures/ mannerisms – the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6.  Voice / speech patterns or distinctions / dialect or accent – No acc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7.  Dress / grooming habits – he is clean yet intimi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8.  List of adjectives describing the character in physical terms – Slimy, manip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Soci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B.  Social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1. Educational Background – Nobility, so he is edu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2. Social class – Upper. That’s wha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3. Economic status – Wealthy. Don’t hate, apprec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4.  Occupation – Ruling ove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5.  Religion – Roman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6.  Politics – The Viceroy/King of New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7.  Hobbies, interests –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8.  Family relationships – Only known family is wife (the Vicere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9,  Other effects of your environment on you: where you’ve lived? the times you’ve grown up in, etc. – Royalty al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cript MT Bold"/>
              </a:rPr>
              <a:t>Psychological / Emotional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   Psychological / Emotional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 Intelligence – To an ex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  Awareness – Highly 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 Originality –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 Stability and self-control – He can control himself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 Temperament (genial, domineering, etc.) – Not easily ro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  Desires, beliefs, ideals – That he should have full control of his w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  Basic attitudes towards your environment, past events, people, etc. – Everything is mine and should go the way I want it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  Adaptability to change – Not adaptable. Wants things to be as they w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  Adjectives describing the character in psychological, emotional terms – Broken, 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Mo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D.  Moral Characteristics Code of ethics; stand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1.  What moral crises do you encounter? – The loss of my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2.  What choices do you make when faced with these crises? Are you selfish? Hypocritical? A person with integrity? etc. How far are you willing to go to get what you want? – Take my love back by force. I will even kill to get what I want. Very much so sel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haracte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Juana – I despise this girl for taking my wife away from me. I act very fake in front of her. She acts fake to m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adre Nunez – N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Sor Filothea – N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Sor Sara – N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Novice – N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Xochitl – N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Vicereine – The one I love; I want her back from Juana’s mind. I am often loving but secretive as I don’t want her to know my plans. Has lost her feelings for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Pedro – My servant, I often show that I don’t have much respect for him. I disrespect him all the time. He acts as a servant should and wishes for my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Silvio – A thief whom I believe to be my puppet. I am using him to destroy Juana’s reputation. I hate him and plan for his death. He dislikes me but believes he is using me when he is w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27:25Z</dcterms:created>
  <dc:creator> </dc:creator>
  <dc:description/>
  <dc:language>en-US</dc:language>
  <cp:lastModifiedBy> </cp:lastModifiedBy>
  <dcterms:modified xsi:type="dcterms:W3CDTF">2010-02-03T18:55:36Z</dcterms:modified>
  <cp:revision>9</cp:revision>
  <dc:subject/>
  <dc:title>The Sins of Sor Juana</dc:title>
</cp:coreProperties>
</file>